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89A71-ABC5-45F4-975D-AB42F9E4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F8CF-15AF-43B1-876D-35CD176A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776C0-1F0A-45EC-9ADC-8666CA91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0580-1035-43EC-AD2E-08DFA6A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8BFA-0200-4702-856B-0EA9EDBB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B3366-3AB4-4071-8482-B5B60AF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C606-40BF-49A3-B9A9-1A2DDC5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C2F76-A1DE-4AC1-9292-7C5FE0F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A57AB-0145-4761-9BFD-72CDF35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6F69-31CB-4AAD-918D-B7087F1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346EB-2883-4819-B3CB-44D3C4B6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1414-72F9-45C1-8B15-EC85BF52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2560" y="6365880"/>
            <a:ext cx="335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Koch-107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1272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736-A6D3-4117-8518-8E192217F67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52EF-AB64-4A86-97BA-D9CFF5124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What Is Christianity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28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Review of the Essentia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Felix Just, S.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A:  Church Organ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es &amp; Denomin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ivisions: always! esp. 1054, 151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so reunifications &amp; mer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. parishes/congregations, local dioceses, national conferences, international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 within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hops (incl. Pope, cardinals), priests, deacons, lay ministers;  pastors, eld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B:  Internal Regu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n join?  What is the process? (evangelization;  catechesis;  init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leaders chosen?  Who is elig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members’ &amp; leaders’ obligations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tions and punishments? (Canon La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C: External Re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menical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between Christian denominat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ateral &amp; international groups (W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religious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with other major world relig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with Judaism &amp; Islam (historically cl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/State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or tensions with political, social, economic, and other secular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s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ches, Divisions, Demo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Texts:  Bible, Creed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Teachings:  Theological &amp; Eth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Practices:  Liturgical &amp; Spiri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, Leadership, Memb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ules;  Extern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ssay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core beliefs and practices of Christianity?  (What is common to all Orthodox, Catholic, and Protestant Xns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some of the most important differences in theology and praxis between Orthodox, Catholic, and Protestant X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(and still is) the impact of the Second Vatican Council on Christianity (both the Catholic Church and others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typical processes of Christian Initiation  (Baptism-Confirmation-Eucharist)?  Differences for Orthodox, Catholics, Protestants?  Differences for infants vs. adults in Catholic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wide variety of Christian "vocations"  (how God "calls" Xns to live; religious &amp; lay; historical differences;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"Scripture" and "Tradition"?  How are they related in Catholic theology?  …in other branches of Christian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ractical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encourage you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y 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your regular group or with other stude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several pens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ma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lue Book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Bible, and your one page of not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am will take most students about two hours; some a little more or l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Well  &amp;  Good Lu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roduc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world relig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“Western” religion (w/ Judaism &amp; Isl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ld religion today (ca. 2 billi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based on belief tha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 “Messiah”) &amp; 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of G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most other major world religions, Christianity has seve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sp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A: 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Background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aha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raelites, Hebrews, Jews, 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cified ca. AD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his first disciples/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evelopment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 preserved/adapted 2000 year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lay of both old &amp; new, ancient &amp; mode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B:  Branches &amp; Subdivi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8454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Christian Branch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astern) Orthodox, (Roman) Catholic, Anglican, Protestant, Restorationist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dox, Anglicans, Protestants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: by nation &amp; language: Greek, Russian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: by nations: esp. former British colon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: by leaders/theologies: Lutheran, Reform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within Catholicism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ous orders &amp; societies (monastic, mendicant, apostolic, etc.), la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C: 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hristians World-wide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2 billion in 2000;  ~ 33% of world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divis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bill. Catholics;  500 mill. Protestant/Anglican; 250 mill. Orthodox;  250 mill.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of Popul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Africa;  85% N. America;  93% S. America; 9% Asia;  76% Europe;  85% Oce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A:  Foundational Tex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collection of books, in two part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Old Testament &amp; New Test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professions of faith, defined by first two Ecumenical Councils: Nicea &amp; Constantin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rit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s of Church leaders through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founders of orders &amp; deno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B:  Core Theological Beliefs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   (Dogmas &amp; Doctrin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God in Three Persons (Trinity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her / Almighty / Crea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/ Jesus / Christ / Savior /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y Spirit / Giver of Life / Parac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&amp; Huma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by God, in God’s image, with free will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good, but corrupted by sin/deat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, Salvation, Eschatolog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of believers; body of Christ; resurrection of the body; etern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C:  Core Ethical Teaching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(Commandments &amp; Precept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Principl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good &amp; avoid evil;  love God, others, self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n “informed con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or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urpose of sex;  consistent ethic of life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lationships;  central role of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thic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nity of each person;  common good;  care of the poor/needy;  work, participation,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D:  Religious Pract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endar, Feasts, &amp; Festiv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m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 L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ints’ days;  local &amp; universal festi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/ Communal Wo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liturgies, rites, rituals, Sacramen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Baptism &amp; Eucharist;  Sunday w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/ Individual Spiritu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yer, devotions, pilgrimages, asceticis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eats, pious/spiritual practic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x Just, SJ</cp:lastModifiedBy>
  <dcterms:modified xsi:type="dcterms:W3CDTF">2006-05-07T07:32:04Z</dcterms:modified>
  <cp:revision>14</cp:revision>
  <dc:subject/>
  <dc:title>PowerPoint Presentation</dc:title>
</cp:coreProperties>
</file>